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D006-E779-4A31-AC72-BCC6495C7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BB4D-27A5-4DEE-839F-FF52F44B7FB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6E69-52A4-45C1-867B-C8C403910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B5E2-60B9-4995-9DE5-620137C9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301C-6197-445A-8258-28CA4D58B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3115-346D-4703-A311-16361CBE6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CDA1-EB89-4441-95AC-3C6AF446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F2CF-4D4D-4515-9F6D-8C2D2616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36F7-7274-4DE2-81A1-E76F122C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8A2C-9E4A-445A-8135-8CCD4103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9B1A-B41E-4CF6-99A5-82A5ADC9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42CE-F409-4FE0-AFED-77297DAD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AEA1-A117-4D6E-BC9F-4AFBF689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B76B-3B87-4911-8188-D6C639BD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9FDA-B80C-4517-A5D1-AC3157D8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1B65-1149-4D5A-A045-0C394624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23CA-8F11-40B4-B693-CF61E3FE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E345-8B08-440D-979F-699877740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3314-F312-45F3-AEE1-20429CB04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59C9-D496-49CE-B709-C6495225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EE02-DB4F-4339-9EB9-3F1E29CE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9485-D842-4BC6-B264-6143D103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E219-BEF0-4F34-AB70-E8E5BA41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3E97-F53F-498F-BC22-EEF7FAF2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6781-BEFE-4ECF-AF11-933570D5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D63B-4AFB-4A3A-BAFA-8E63115D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51DA-B0EF-4DBC-B791-5572A6674F30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1E72-5CD6-4556-8C24-8E34F99F7878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170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600" spc="-1" strike="noStrike">
                <a:solidFill>
                  <a:srgbClr val="ffffcc"/>
                </a:solidFill>
                <a:latin typeface="Arial"/>
              </a:rPr>
              <a:t>Chapitre 1</a:t>
            </a:r>
            <a:endParaRPr b="0" lang="en-US" sz="9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32000" y="38606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ffffff"/>
                </a:solidFill>
                <a:latin typeface="Tahoma"/>
              </a:rPr>
              <a:t>L’autonomisation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6" descr="hm00376_[1]"/>
          <p:cNvPicPr/>
          <p:nvPr/>
        </p:nvPicPr>
        <p:blipFill>
          <a:blip r:embed="rId1"/>
          <a:stretch/>
        </p:blipFill>
        <p:spPr>
          <a:xfrm>
            <a:off x="324000" y="333360"/>
            <a:ext cx="18986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cc"/>
                </a:solidFill>
                <a:latin typeface="Arial"/>
              </a:rPr>
              <a:t>Le Puzzle de l’autonomi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l y a 5 morceaux principaux au puzzle de l’autonomi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nd des individus sont autorisés dans ces 5 secteurs, ils ont une bonne chance à réaliser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l‘autonomie personnel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6" descr="MCj03115260000[1]"/>
          <p:cNvPicPr/>
          <p:nvPr/>
        </p:nvPicPr>
        <p:blipFill>
          <a:blip r:embed="rId1"/>
          <a:stretch/>
        </p:blipFill>
        <p:spPr>
          <a:xfrm>
            <a:off x="5364000" y="4311720"/>
            <a:ext cx="321480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0" spc="-1" strike="noStrike">
                <a:solidFill>
                  <a:srgbClr val="ffffcc"/>
                </a:solidFill>
                <a:latin typeface="Arial"/>
              </a:rPr>
              <a:t>Les 5 secteurs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cc6600"/>
                </a:solidFill>
                <a:latin typeface="Tahoma"/>
              </a:rPr>
              <a:t>Economiqu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33cc33"/>
                </a:solidFill>
                <a:latin typeface="Tahoma"/>
              </a:rPr>
              <a:t>Politiqu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ff0066"/>
                </a:solidFill>
                <a:latin typeface="Tahoma"/>
              </a:rPr>
              <a:t>Culture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cc6600"/>
                </a:solidFill>
                <a:latin typeface="Tahoma"/>
              </a:rPr>
              <a:t>Soci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ffffff"/>
                </a:solidFill>
                <a:latin typeface="Tahoma"/>
              </a:rPr>
              <a:t>National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cc"/>
                </a:solidFill>
                <a:latin typeface="Arial"/>
              </a:rPr>
              <a:t>L’Autonomie Économiqu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Tahoma"/>
              </a:rPr>
              <a:t>Les sciences économiques sont l'étude de la façon dont les gens travaillent pour créer la riches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c000"/>
                </a:solidFill>
                <a:uFillTx/>
                <a:latin typeface="Tahoma"/>
              </a:rPr>
              <a:t>L’autonomie économique </a:t>
            </a:r>
            <a:r>
              <a:rPr b="0" lang="fr-FR" sz="3200" spc="-1" strike="noStrike">
                <a:solidFill>
                  <a:srgbClr val="ffc000"/>
                </a:solidFill>
                <a:latin typeface="Tahoma"/>
              </a:rPr>
              <a:t>vient d’ avoir assez de richesse pour prendre soin de vos besoin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4" descr="MCBS00508_0000[1]"/>
          <p:cNvPicPr/>
          <p:nvPr/>
        </p:nvPicPr>
        <p:blipFill>
          <a:blip r:embed="rId1"/>
          <a:stretch/>
        </p:blipFill>
        <p:spPr>
          <a:xfrm>
            <a:off x="3780000" y="4941720"/>
            <a:ext cx="157464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cc"/>
                </a:solidFill>
                <a:latin typeface="Arial"/>
              </a:rPr>
              <a:t>L’autonomie Politiqu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Tahoma"/>
              </a:rPr>
              <a:t>La politique est la limite générale pour toutes les choses que nous faisons pour nous organiser, arrangeons des désaccords, et prend la décision dans nos écoles, communautés, et pay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c000"/>
                </a:solidFill>
                <a:uFillTx/>
                <a:latin typeface="Tahoma"/>
              </a:rPr>
              <a:t>L’autonomie politique </a:t>
            </a:r>
            <a:r>
              <a:rPr b="0" lang="fr-FR" sz="3200" spc="-1" strike="noStrike">
                <a:solidFill>
                  <a:srgbClr val="ffc000"/>
                </a:solidFill>
                <a:latin typeface="Tahoma"/>
              </a:rPr>
              <a:t>vient de avoir une parole dans la façon dont des choses sont organisées et la façon dont des décisions sont pris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7286760" y="5610240"/>
            <a:ext cx="9144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L’autonomie Culture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 u="sng">
                <a:solidFill>
                  <a:srgbClr val="e5b325"/>
                </a:solidFill>
                <a:uFillTx/>
                <a:latin typeface="Tahoma"/>
              </a:rPr>
              <a:t>Culture</a:t>
            </a:r>
            <a:r>
              <a:rPr b="0" lang="en-CA" sz="3200" spc="-1" strike="noStrike">
                <a:solidFill>
                  <a:srgbClr val="e5b325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ffc000"/>
                </a:solidFill>
                <a:latin typeface="Tahoma"/>
              </a:rPr>
              <a:t>est un mode de v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 u="sng">
                <a:solidFill>
                  <a:srgbClr val="e5b325"/>
                </a:solidFill>
                <a:uFillTx/>
                <a:latin typeface="Tahoma"/>
              </a:rPr>
              <a:t>L’autonomie culturel </a:t>
            </a:r>
            <a:r>
              <a:rPr b="0" lang="fr-FR" sz="3200" spc="-1" strike="noStrike">
                <a:solidFill>
                  <a:srgbClr val="ffc000"/>
                </a:solidFill>
                <a:latin typeface="Tahoma"/>
              </a:rPr>
              <a:t>venez d'être libre pour pratiquer votre culture, n'importe comment grand ou petit votrer groupe de culture est dans la sociét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6084720" y="1700280"/>
            <a:ext cx="16560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cc"/>
                </a:solidFill>
                <a:latin typeface="Arial"/>
              </a:rPr>
              <a:t>L’autonomie Socia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 u="sng">
                <a:solidFill>
                  <a:srgbClr val="e5b325"/>
                </a:solidFill>
                <a:uFillTx/>
                <a:latin typeface="Tahoma"/>
              </a:rPr>
              <a:t>Societé </a:t>
            </a:r>
            <a:r>
              <a:rPr b="0" lang="en-CA" sz="3200" spc="-1" strike="noStrike">
                <a:solidFill>
                  <a:srgbClr val="e5b325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ffc000"/>
                </a:solidFill>
                <a:latin typeface="Tahoma"/>
              </a:rPr>
              <a:t>implique tout que les gens font quand ils vivent, travaillent, et jouent ensembles dans les communauté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 u="sng">
                <a:solidFill>
                  <a:srgbClr val="e5b325"/>
                </a:solidFill>
                <a:uFillTx/>
                <a:latin typeface="Tahoma"/>
              </a:rPr>
              <a:t>L’autonomie Social </a:t>
            </a:r>
            <a:r>
              <a:rPr b="0" lang="fr-FR" sz="3200" spc="-1" strike="noStrike">
                <a:solidFill>
                  <a:srgbClr val="ffc000"/>
                </a:solidFill>
                <a:latin typeface="Tahoma"/>
              </a:rPr>
              <a:t>est quand tous les membres de la société sont traitées ég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cc"/>
                </a:solidFill>
                <a:latin typeface="Arial"/>
              </a:rPr>
              <a:t>L’autonomie Nationa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 u="sng">
                <a:solidFill>
                  <a:srgbClr val="e5b325"/>
                </a:solidFill>
                <a:uFillTx/>
                <a:latin typeface="Tahoma"/>
              </a:rPr>
              <a:t>Nation</a:t>
            </a:r>
            <a:r>
              <a:rPr b="0" lang="en-CA" sz="3200" spc="-1" strike="noStrike">
                <a:solidFill>
                  <a:srgbClr val="e5b325"/>
                </a:solidFill>
                <a:latin typeface="Tahoma"/>
              </a:rPr>
              <a:t> est un autre mot pour p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 u="sng">
                <a:solidFill>
                  <a:srgbClr val="e5b325"/>
                </a:solidFill>
                <a:uFillTx/>
                <a:latin typeface="Tahoma"/>
              </a:rPr>
              <a:t>L’autonomie Nationale </a:t>
            </a:r>
            <a:r>
              <a:rPr b="0" lang="en-CA" sz="3200" spc="-1" strike="noStrike">
                <a:solidFill>
                  <a:srgbClr val="e5b325"/>
                </a:solidFill>
                <a:latin typeface="Tahoma"/>
              </a:rPr>
              <a:t>est 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réalis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5b325"/>
                </a:solidFill>
                <a:latin typeface="Tahoma"/>
              </a:rPr>
              <a:t>   </a:t>
            </a:r>
            <a:r>
              <a:rPr b="0" lang="en-CA" sz="3200" spc="-1" strike="noStrike">
                <a:solidFill>
                  <a:srgbClr val="e5b325"/>
                </a:solidFill>
                <a:latin typeface="Tahoma"/>
              </a:rPr>
              <a:t>quand un pays a la pouvoir de faire les décisions pour soi-mê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cc"/>
                </a:solidFill>
                <a:latin typeface="Arial"/>
              </a:rPr>
              <a:t>La dépendan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0092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L’affaiblissement de l’autonomie – le processus qui mène à la dépend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La vie sans autonomie – les gens ont l’impression d’avoir peu de contrôle sur leur vie. Ils pensent qu’ils n’ont pas le pouvoir de faire des choix concernant des choses importants pour eux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es droits de la personn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 droits de la personne – assurent l’autonomisation économique, politique, culturelle et sociale des individ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 Canada, les positions sur les droits de la personne ont changé après des ans pour améliorer les vies des citoye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utefois, tout n’est pas parfait. Plusieur groupes continuent leurs efforts pour que la société canadienne reconnaise davantage leurs droi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es enfants et la dépendan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 enfants peuvent facilement 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perdre leurs autonomi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arce que les adultes a l’autorité dans la pluspart des c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 1990, le Canada a signé la 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Convention sur les droits de l’enfa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 Cette convention confirme que les enfants ont le droit de grandir dans 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un foyer chaleureux, de jouer et d’être eduqué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cc"/>
                </a:solidFill>
                <a:latin typeface="Arial"/>
              </a:rPr>
              <a:t>Le Pouvoi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Tahoma"/>
              </a:rPr>
              <a:t>Qu’est-ce c’est le pouvoir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capacité, la force, et la capacité de faire quelque chos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e personne doit avoir l'autorité pour exercer la puissa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4" descr="j0404337[1]"/>
          <p:cNvPicPr/>
          <p:nvPr/>
        </p:nvPicPr>
        <p:blipFill>
          <a:blip r:embed="rId1"/>
          <a:stretch/>
        </p:blipFill>
        <p:spPr>
          <a:xfrm>
            <a:off x="7093080" y="189000"/>
            <a:ext cx="136188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99680" y="571320"/>
            <a:ext cx="4040280" cy="55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Alberta</a:t>
            </a:r>
            <a:r>
              <a:rPr b="0" lang="en-US" sz="2800" spc="-1" strike="noStrike">
                <a:solidFill>
                  <a:srgbClr val="16161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16161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161616"/>
                </a:solidFill>
                <a:latin typeface="Tahoma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161616"/>
                </a:solidFill>
                <a:latin typeface="Tahoma"/>
              </a:rPr>
              <a:t>(Edmonton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Columbie-Britannique</a:t>
            </a:r>
            <a:br>
              <a:rPr sz="2800"/>
            </a:br>
            <a:r>
              <a:rPr b="0" lang="en-US" sz="2800" spc="-1" strike="noStrike">
                <a:solidFill>
                  <a:srgbClr val="161616"/>
                </a:solidFill>
                <a:latin typeface="Tahoma"/>
              </a:rPr>
              <a:t>(Victoria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Île du Prince-Eduard</a:t>
            </a:r>
            <a:br>
              <a:rPr sz="2800"/>
            </a:br>
            <a:r>
              <a:rPr b="0" lang="en-US" sz="2800" spc="-1" strike="noStrike">
                <a:solidFill>
                  <a:srgbClr val="161616"/>
                </a:solidFill>
                <a:latin typeface="Tahoma"/>
              </a:rPr>
              <a:t>(Charlottetown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Manitoba</a:t>
            </a:r>
            <a:br>
              <a:rPr sz="2800"/>
            </a:br>
            <a:r>
              <a:rPr b="0" lang="en-US" sz="2800" spc="-1" strike="noStrike">
                <a:solidFill>
                  <a:srgbClr val="161616"/>
                </a:solidFill>
                <a:latin typeface="Tahoma"/>
              </a:rPr>
              <a:t>(Winnipeg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Nouveau-Brunswick</a:t>
            </a:r>
            <a:br>
              <a:rPr sz="2800"/>
            </a:br>
            <a:r>
              <a:rPr b="0" lang="en-US" sz="2800" spc="-1" strike="noStrike">
                <a:solidFill>
                  <a:srgbClr val="161616"/>
                </a:solidFill>
                <a:latin typeface="Tahoma"/>
              </a:rPr>
              <a:t>(Fredericton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ahoma"/>
              </a:rPr>
              <a:t>Nouvelle-Écosse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Tahoma"/>
              </a:rPr>
              <a:t>(Halifax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643280" y="713880"/>
            <a:ext cx="4042080" cy="53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ahoma"/>
              </a:rPr>
              <a:t>Nunavut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Tahoma"/>
              </a:rPr>
              <a:t>(Iqaluit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ahoma"/>
              </a:rPr>
              <a:t>Ontario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Tahoma"/>
              </a:rPr>
              <a:t>(Toronto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ahoma"/>
              </a:rPr>
              <a:t>Québec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Tahoma"/>
              </a:rPr>
              <a:t>(Québec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ahoma"/>
              </a:rPr>
              <a:t>Saskatchewan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Tahoma"/>
              </a:rPr>
              <a:t>(Regina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ahoma"/>
              </a:rPr>
              <a:t>Terre-Neuve et Labrador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Tahoma"/>
              </a:rPr>
              <a:t>(St. John's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ahoma"/>
              </a:rPr>
              <a:t>Territoires du Nord-Ouest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Tahoma"/>
              </a:rPr>
              <a:t>(Yellowknife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ahoma"/>
              </a:rPr>
              <a:t>Yukon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Tahoma"/>
              </a:rPr>
              <a:t>(Whitehorse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Diagram 4"/>
          <p:cNvGrpSpPr/>
          <p:nvPr/>
        </p:nvGrpSpPr>
        <p:grpSpPr>
          <a:xfrm>
            <a:off x="324000" y="1052640"/>
            <a:ext cx="8229600" cy="4530600"/>
            <a:chOff x="324000" y="1052640"/>
            <a:chExt cx="8229600" cy="4530600"/>
          </a:xfrm>
        </p:grpSpPr>
        <p:sp>
          <p:nvSpPr>
            <p:cNvPr id="166" name="_s1028"/>
            <p:cNvSpPr/>
            <p:nvPr/>
          </p:nvSpPr>
          <p:spPr>
            <a:xfrm flipH="1">
              <a:off x="2381400" y="3331080"/>
              <a:ext cx="977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_s1029"/>
            <p:cNvSpPr/>
            <p:nvPr/>
          </p:nvSpPr>
          <p:spPr>
            <a:xfrm>
              <a:off x="324000" y="2652120"/>
              <a:ext cx="2710080" cy="148608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imes New Roman"/>
                </a:rPr>
                <a:t>Synonymes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_s1030"/>
            <p:cNvSpPr/>
            <p:nvPr/>
          </p:nvSpPr>
          <p:spPr>
            <a:xfrm>
              <a:off x="4336200" y="3871800"/>
              <a:ext cx="0" cy="54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_s1031"/>
            <p:cNvSpPr/>
            <p:nvPr/>
          </p:nvSpPr>
          <p:spPr>
            <a:xfrm>
              <a:off x="2823480" y="4251960"/>
              <a:ext cx="3021480" cy="1331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imes New Roman"/>
                </a:rPr>
                <a:t>Examples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_s1032"/>
            <p:cNvSpPr/>
            <p:nvPr/>
          </p:nvSpPr>
          <p:spPr>
            <a:xfrm>
              <a:off x="5313600" y="3331080"/>
              <a:ext cx="977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_s1033"/>
            <p:cNvSpPr/>
            <p:nvPr/>
          </p:nvSpPr>
          <p:spPr>
            <a:xfrm>
              <a:off x="5845320" y="2742480"/>
              <a:ext cx="2708280" cy="1688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imes New Roman"/>
                </a:rPr>
                <a:t>Definition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_s1034"/>
            <p:cNvSpPr/>
            <p:nvPr/>
          </p:nvSpPr>
          <p:spPr>
            <a:xfrm flipV="1">
              <a:off x="4336200" y="2249640"/>
              <a:ext cx="0" cy="54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_s1035"/>
            <p:cNvSpPr/>
            <p:nvPr/>
          </p:nvSpPr>
          <p:spPr>
            <a:xfrm>
              <a:off x="2407320" y="1052640"/>
              <a:ext cx="3958920" cy="157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800000"/>
                  </a:solidFill>
                  <a:latin typeface="Times New Roman"/>
                </a:rPr>
                <a:t>Dessin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_s1036"/>
            <p:cNvSpPr/>
            <p:nvPr/>
          </p:nvSpPr>
          <p:spPr>
            <a:xfrm>
              <a:off x="3358800" y="2790360"/>
              <a:ext cx="1954800" cy="1081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000" spc="-1" strike="noStrike" u="sng">
                  <a:solidFill>
                    <a:srgbClr val="800000"/>
                  </a:solidFill>
                  <a:uFillTx/>
                  <a:latin typeface="Britannic Bold"/>
                </a:rPr>
                <a:t>Pouvoir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cc"/>
                </a:solidFill>
                <a:latin typeface="Arial"/>
              </a:rPr>
              <a:t>L’autorit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Arial"/>
              </a:rPr>
              <a:t>é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Qu’est-ce que c’est l’autori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é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 droit ou la puissance d'imposer des règles ou de donner des ord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me. Lockhart a la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pouvoi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suspendre des étudiants parce qu'elle a été donnée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l'autorité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à faire par le distric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cc"/>
                </a:solidFill>
                <a:latin typeface="Arial"/>
              </a:rPr>
              <a:t>Pouvoir &amp; Autorité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57200" y="1600200"/>
          <a:ext cx="8229600" cy="4686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Examples d’autorit</a:t>
                      </a: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Le pouvoir que la personne utuli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e capitaine de l’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é</a:t>
                      </a: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uippe de soccer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ésident du </a:t>
                      </a: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udent counc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crétaire de l’éc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e Premier Ministre de Can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cc"/>
                </a:solidFill>
                <a:latin typeface="Arial"/>
              </a:rPr>
              <a:t>L’autonomisation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‘autonomisation est d’être donnée l'autorité d'exercicer ta povo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Mme. Lockhart est </a:t>
            </a:r>
            <a:r>
              <a:rPr b="1" i="1" lang="en-CA" sz="2800" spc="-1" strike="noStrike">
                <a:solidFill>
                  <a:srgbClr val="ffffff"/>
                </a:solidFill>
                <a:latin typeface="Tahoma"/>
              </a:rPr>
              <a:t>autonomer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 a suspendre le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étudia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4" descr="j0334014[1]"/>
          <p:cNvPicPr/>
          <p:nvPr/>
        </p:nvPicPr>
        <p:blipFill>
          <a:blip r:embed="rId1"/>
          <a:stretch/>
        </p:blipFill>
        <p:spPr>
          <a:xfrm>
            <a:off x="6012000" y="4292640"/>
            <a:ext cx="166212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5"/>
          <p:cNvSpPr/>
          <p:nvPr/>
        </p:nvSpPr>
        <p:spPr>
          <a:xfrm>
            <a:off x="233280" y="1059120"/>
            <a:ext cx="891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Faire une recherche dans les journaux et les autres médias afin de trouver des personnes en situation d’autorité et expliquer pourquoi elles ont du pouvoi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eurs constatations peuvent être notées dans le tableau suivant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900000" y="3141720"/>
            <a:ext cx="7559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cc"/>
                </a:solidFill>
                <a:latin typeface="Arial"/>
              </a:rPr>
              <a:t>L’autonomie personel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’autonomie personnelle vient d’ avoir la capacité de faire quelque chose au sujet de vos besoins, veut, des avis, croyance et des sentiment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ctr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ahoma"/>
              </a:rPr>
              <a:t>Vous avez pris les premières mesures vers l’autonomie personnelle juste par venir </a:t>
            </a:r>
            <a:r>
              <a:rPr b="0" lang="en-US" sz="2800" spc="-1" strike="noStrike">
                <a:solidFill>
                  <a:srgbClr val="33cc33"/>
                </a:solidFill>
                <a:latin typeface="Tahoma"/>
                <a:ea typeface="Tahoma"/>
              </a:rPr>
              <a:t>à</a:t>
            </a:r>
            <a:r>
              <a:rPr b="0" lang="en-US" sz="2800" spc="-1" strike="noStrike">
                <a:solidFill>
                  <a:srgbClr val="33cc33"/>
                </a:solidFill>
                <a:latin typeface="Tahoma"/>
              </a:rPr>
              <a:t> l'école 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Pensez au type de puissance et d'autorité que vous voulez avoir en 20 ans…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Comp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ète u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Script MT Bold"/>
              </a:rPr>
              <a:t>portrait personel 20 ans de maintena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 employant les questions suivantes comme une guide 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Quel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â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ge serez-vou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Qu’est-ce que tu as fais/feras pour l’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éducation poste-secondair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u’est-ce que votre carrière sera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Quel style de cheveux est-ce que tu vas avoir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ù habiterez-vous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u’est-ce que vos passe-temps seront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st-ce que tu es marié 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0066"/>
                </a:solidFill>
                <a:latin typeface="Tahoma"/>
              </a:rPr>
              <a:t>Qu’est-ce que tu dois faire pour rendre l</a:t>
            </a:r>
            <a:r>
              <a:rPr b="0" lang="en-US" sz="2000" spc="-1" strike="noStrike">
                <a:solidFill>
                  <a:srgbClr val="ff0066"/>
                </a:solidFill>
                <a:latin typeface="Tahoma"/>
                <a:ea typeface="Tahoma"/>
              </a:rPr>
              <a:t>à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98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98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98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98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98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98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98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98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98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3T00:02:59Z</dcterms:created>
  <dc:creator>menb</dc:creator>
  <dc:description/>
  <dc:language>en-US</dc:language>
  <cp:lastModifiedBy>ginny.lawson</cp:lastModifiedBy>
  <dcterms:modified xsi:type="dcterms:W3CDTF">2009-10-27T21:51:58Z</dcterms:modified>
  <cp:revision>58</cp:revision>
  <dc:subject/>
  <dc:title>Chapter 1</dc:title>
</cp:coreProperties>
</file>